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FDFA4-EC06-42AB-8315-15587F7EB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28600" y="413064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790C7-1567-4ACF-B5EE-8DCDF27AF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01616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BD2BA-4C6D-422D-BDD1-DB2EADCF8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72808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22720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2860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72808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22720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79714-067C-4158-90BB-FEB0F2FD7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85167-25EA-4794-BEFE-96160F7F8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595E8-0A70-49D4-9D42-BE7E9D97D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C772A-CAFA-4D6B-B9F4-3B6E146A8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A91DC-24BD-4682-8933-B0A4671AD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058F7-5A3F-411C-A542-AE25B4839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228600" y="609120"/>
            <a:ext cx="7391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DE43A-8197-4AE9-9928-E1E5637D5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D9FE3-8B32-4698-99AC-D27500EFC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A2B5F-55BB-4EEA-BF7F-5941C6901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01616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B3EF6-6132-44AA-9C07-590C86A4B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13611-FEF3-4BED-ACE1-EEF3FB26D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228600" y="413064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A71A3-E90B-4A15-A1EB-1530ECC89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01616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06693-BC41-43E3-94EF-FDB22ED16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72808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22720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22860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272808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22720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B6C47-C6EC-4E8C-937E-C67DD4B41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56771-1AD3-4C45-9CB4-5E0DBED5F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D9647-8D1B-43EE-BF1E-D13C4A23F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85625-0DC0-433E-8A28-386839BFF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28600" y="609120"/>
            <a:ext cx="7391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8DB78-64F4-47F2-8A5D-2E6DEFEAA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91D3A-E4F7-4E2A-AB65-4882033C4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01616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6E5D8-99BF-40CD-B391-533A05DFD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C8F4A-35A6-445E-8D6D-B399D609B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7419960" y="0"/>
            <a:ext cx="1730520" cy="6858000"/>
            <a:chOff x="7419960" y="0"/>
            <a:chExt cx="1730520" cy="6858000"/>
          </a:xfrm>
        </p:grpSpPr>
        <p:sp>
          <p:nvSpPr>
            <p:cNvPr id="1" name=""/>
            <p:cNvSpPr/>
            <p:nvPr/>
          </p:nvSpPr>
          <p:spPr>
            <a:xfrm>
              <a:off x="7905960" y="0"/>
              <a:ext cx="1242720" cy="3316320"/>
            </a:xfrm>
            <a:prstGeom prst="rect">
              <a:avLst/>
            </a:prstGeom>
            <a:gradFill rotWithShape="0">
              <a:gsLst>
                <a:gs pos="0">
                  <a:srgbClr val="d8d688"/>
                </a:gs>
                <a:gs pos="100000">
                  <a:srgbClr val="4847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rcRect l="0" t="0" r="13899" b="31864"/>
            <a:stretch/>
          </p:blipFill>
          <p:spPr>
            <a:xfrm>
              <a:off x="7419960" y="465120"/>
              <a:ext cx="1730520" cy="6392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Click to edit the outline text format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61c62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Second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484719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Third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Fourth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2d2525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Fifth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2d2525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Sixth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2d2525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Seventh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228600" y="624852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d252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d252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251424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d2525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d252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095880" y="6248520"/>
            <a:ext cx="1524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d252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AFC79-D2CA-4376-9753-2E9C8C886C5A}" type="slidenum">
              <a:rPr b="0" lang="en-US" sz="1400" spc="-1" strike="noStrike">
                <a:solidFill>
                  <a:srgbClr val="2d252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7419960" y="0"/>
            <a:ext cx="1730520" cy="6858000"/>
            <a:chOff x="7419960" y="0"/>
            <a:chExt cx="1730520" cy="6858000"/>
          </a:xfrm>
        </p:grpSpPr>
        <p:sp>
          <p:nvSpPr>
            <p:cNvPr id="45" name=""/>
            <p:cNvSpPr/>
            <p:nvPr/>
          </p:nvSpPr>
          <p:spPr>
            <a:xfrm>
              <a:off x="7905960" y="0"/>
              <a:ext cx="1242720" cy="3316320"/>
            </a:xfrm>
            <a:prstGeom prst="rect">
              <a:avLst/>
            </a:prstGeom>
            <a:gradFill rotWithShape="0">
              <a:gsLst>
                <a:gs pos="0">
                  <a:srgbClr val="d8d688"/>
                </a:gs>
                <a:gs pos="100000">
                  <a:srgbClr val="4847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2"/>
            <a:srcRect l="0" t="0" r="13899" b="31864"/>
            <a:stretch/>
          </p:blipFill>
          <p:spPr>
            <a:xfrm>
              <a:off x="7419960" y="465120"/>
              <a:ext cx="1730520" cy="6392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1920" y="990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d252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d252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2438280" y="6248520"/>
            <a:ext cx="3200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d2525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d252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019560" y="624852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d252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EF81E-9691-47A4-97F6-063054A9EB83}" type="slidenum">
              <a:rPr b="0" lang="en-US" sz="1400" spc="-1" strike="noStrike">
                <a:solidFill>
                  <a:srgbClr val="2d252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Click to edit the outline text format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d2525"/>
                </a:solidFill>
                <a:latin typeface="Times New Roman"/>
              </a:rPr>
              <a:t>Second Outline Level</a:t>
            </a: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484719"/>
              </a:buClr>
              <a:buFont typeface="Wingdings" charset="2"/>
              <a:buChar char="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d2525"/>
                </a:solidFill>
                <a:latin typeface="Times New Roman"/>
              </a:rPr>
              <a:t>Third Outline Level</a:t>
            </a:r>
            <a:endParaRPr b="0" i="1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d2525"/>
                </a:solidFill>
                <a:latin typeface="Times New Roman"/>
              </a:rPr>
              <a:t>Fourth Outline Level</a:t>
            </a:r>
            <a:endParaRPr b="0" i="1" lang="en-US" sz="2000" spc="-1" strike="noStrike">
              <a:solidFill>
                <a:srgbClr val="2d2525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2d2525"/>
              </a:buClr>
              <a:buFont typeface="Wingdings" charset="2"/>
              <a:buChar char="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d2525"/>
                </a:solidFill>
                <a:latin typeface="Times New Roman"/>
              </a:rPr>
              <a:t>Fifth Outline Level</a:t>
            </a:r>
            <a:endParaRPr b="0" i="1" lang="en-US" sz="2000" spc="-1" strike="noStrike">
              <a:solidFill>
                <a:srgbClr val="2d2525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2d2525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d2525"/>
                </a:solidFill>
                <a:latin typeface="Times New Roman"/>
              </a:rPr>
              <a:t>Sixth Outline Level</a:t>
            </a:r>
            <a:endParaRPr b="0" i="1" lang="en-US" sz="2000" spc="-1" strike="noStrike">
              <a:solidFill>
                <a:srgbClr val="2d2525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2d2525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d2525"/>
                </a:solidFill>
                <a:latin typeface="Times New Roman"/>
              </a:rPr>
              <a:t>Seventh Outline Level</a:t>
            </a:r>
            <a:endParaRPr b="0" i="1" lang="en-US" sz="20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Array Volcan Baru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457200" y="1523880"/>
            <a:ext cx="7010280" cy="45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61c62"/>
                </a:solidFill>
                <a:latin typeface="Times New Roman"/>
              </a:rPr>
              <a:t>Does it work?  Yes!</a:t>
            </a:r>
            <a:br>
              <a:rPr sz="4000"/>
            </a:br>
            <a:r>
              <a:rPr b="0" lang="en-US" sz="4000" spc="-1" strike="noStrike">
                <a:solidFill>
                  <a:srgbClr val="061c62"/>
                </a:solidFill>
                <a:latin typeface="Times New Roman"/>
              </a:rPr>
              <a:t>Have I used it? No time!</a:t>
            </a:r>
            <a:endParaRPr b="0" lang="en-US" sz="4000" spc="-1" strike="noStrike">
              <a:solidFill>
                <a:srgbClr val="061c62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609480" y="1600200"/>
            <a:ext cx="6782040" cy="50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What is next?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2d2525"/>
                </a:solidFill>
                <a:latin typeface="Times New Roman"/>
              </a:rPr>
              <a:t>I plan to write software to do automatic locations and notification with just the array and very local stations.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2d2525"/>
                </a:solidFill>
                <a:latin typeface="Times New Roman"/>
              </a:rPr>
              <a:t>See how many stations in what configurations give the best results.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2d2525"/>
                </a:solidFill>
                <a:latin typeface="Times New Roman"/>
              </a:rPr>
              <a:t>Move the array to a better location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2d2525"/>
                </a:solidFill>
                <a:latin typeface="Times New Roman"/>
              </a:rPr>
              <a:t>Make several arrays in the region.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What did I learn?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73915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Buried wires are a mess.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61c62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d2525"/>
                </a:solidFill>
                <a:latin typeface="Times New Roman"/>
              </a:rPr>
              <a:t>Must be very careful in burying or you </a:t>
            </a: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d2525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2d2525"/>
                </a:solidFill>
                <a:latin typeface="Times New Roman"/>
              </a:rPr>
              <a:t>will not be able to pull the wires.</a:t>
            </a: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61c62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d2525"/>
                </a:solidFill>
                <a:latin typeface="Times New Roman"/>
              </a:rPr>
              <a:t>Grounding and induced currents are a concern.</a:t>
            </a: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61c62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d2525"/>
                </a:solidFill>
                <a:latin typeface="Times New Roman"/>
              </a:rPr>
              <a:t>You must be able to access the installation easly.</a:t>
            </a: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61c62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d2525"/>
                </a:solidFill>
                <a:latin typeface="Times New Roman"/>
              </a:rPr>
              <a:t>The processing must be easy, automatic.</a:t>
            </a: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Questions?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609480" y="1523880"/>
            <a:ext cx="670572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What is an Array?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An array is a set of seismic sensors, with a common response function, recording time synchronized.  Deployed in  a homogeneous area according to a certain configuration with the aim of obtaining a coherent spatial sampling of the seismic wave in time.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                                              </a:t>
            </a: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Jens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57200" y="3429000"/>
            <a:ext cx="2895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61c62"/>
                </a:solidFill>
                <a:latin typeface="Times New Roman"/>
              </a:rPr>
              <a:t>Let’s look at the criteria one at a time</a:t>
            </a:r>
            <a:endParaRPr b="0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4038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61c62"/>
                </a:solidFill>
                <a:latin typeface="Times New Roman"/>
              </a:rPr>
              <a:t>Is VAB an array?</a:t>
            </a:r>
            <a:br>
              <a:rPr sz="4000"/>
            </a:br>
            <a:r>
              <a:rPr b="1" lang="en-US" sz="4000" spc="-1" strike="noStrike">
                <a:solidFill>
                  <a:srgbClr val="061c62"/>
                </a:solidFill>
                <a:latin typeface="Times New Roman"/>
              </a:rPr>
              <a:t>You bet</a:t>
            </a:r>
            <a:r>
              <a:rPr b="0" lang="en-US" sz="2400" spc="-1" strike="noStrike">
                <a:solidFill>
                  <a:srgbClr val="061c62"/>
                </a:solidFill>
                <a:latin typeface="Times New Roman"/>
              </a:rPr>
              <a:t>!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276720" y="762120"/>
            <a:ext cx="4171680" cy="55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61c62"/>
                </a:solidFill>
                <a:latin typeface="Times New Roman"/>
              </a:rPr>
              <a:t>A set of seismic sensors, with a common response function</a:t>
            </a:r>
            <a:endParaRPr b="0" lang="en-US" sz="40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2d2525"/>
                </a:solidFill>
                <a:latin typeface="Times New Roman"/>
              </a:rPr>
              <a:t>Yes,  there are eight sensors.  The are 4.5 Hz geophones with identical electronics.</a:t>
            </a: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905120" y="320040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Recording time synchronized.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880" y="1218960"/>
            <a:ext cx="73152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2d2525"/>
                </a:solidFill>
                <a:latin typeface="Times New Roman"/>
              </a:rPr>
              <a:t>Yes,  The central station has a GSP and a PPS pulse is sent to all of the remote stations.</a:t>
            </a: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143000" y="2514600"/>
            <a:ext cx="5715000" cy="400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61c62"/>
                </a:solidFill>
                <a:latin typeface="Times New Roman"/>
              </a:rPr>
              <a:t>Deployed in  a homogeneous area</a:t>
            </a:r>
            <a:endParaRPr b="0" lang="en-US" sz="40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73915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Yes,  It is in one of the wettest, soft, muddy, least well drained areas in Volcan.  But it is homogeneous.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0880" y="3200400"/>
            <a:ext cx="74678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d2525"/>
                </a:solidFill>
                <a:latin typeface="Times New Roman"/>
              </a:rPr>
              <a:t>So why did I put it in such a place?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d2525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2d2525"/>
                </a:solidFill>
                <a:latin typeface="Times New Roman"/>
              </a:rPr>
              <a:t>* It is flat and homogeneous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d2525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2d2525"/>
                </a:solidFill>
                <a:latin typeface="Times New Roman"/>
              </a:rPr>
              <a:t>* Close to where I live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d2525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2d2525"/>
                </a:solidFill>
                <a:latin typeface="Times New Roman"/>
              </a:rPr>
              <a:t>* All on one property where I had permission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d2525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2d2525"/>
                </a:solidFill>
                <a:latin typeface="Times New Roman"/>
              </a:rPr>
              <a:t>* It has electrical power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d2525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2d2525"/>
                </a:solidFill>
                <a:latin typeface="Times New Roman"/>
              </a:rPr>
              <a:t>* It has internet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d2525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2d2525"/>
                </a:solidFill>
                <a:latin typeface="Times New Roman"/>
              </a:rPr>
              <a:t>* Security, some lives at the central station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d2525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2d2525"/>
                </a:solidFill>
                <a:latin typeface="Times New Roman"/>
              </a:rPr>
              <a:t>* My goal was to learn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d2525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To a certain configuration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7315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d2525"/>
                </a:solidFill>
                <a:latin typeface="Times New Roman"/>
              </a:rPr>
              <a:t>It is an “L” shaped configurations and the points are accurate to &lt; 1 meter.</a:t>
            </a: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762120" y="2133720"/>
            <a:ext cx="6553080" cy="445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61c62"/>
                </a:solidFill>
                <a:latin typeface="Times New Roman"/>
              </a:rPr>
              <a:t>Coherent spatial sampling of the seismic wave in time.</a:t>
            </a:r>
            <a:br>
              <a:rPr sz="4000"/>
            </a:br>
            <a:endParaRPr b="0" lang="en-US" sz="4000" spc="-1" strike="noStrike">
              <a:solidFill>
                <a:srgbClr val="061c62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609480" y="1676520"/>
            <a:ext cx="6477120" cy="48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Basic Configuration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380880" y="1066680"/>
            <a:ext cx="716292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04-01-01T00:00:00Z</dcterms:created>
  <dc:creator/>
  <dc:description/>
  <dc:language>en-US</dc:language>
  <cp:lastModifiedBy>arodrig.adm</cp:lastModifiedBy>
  <cp:lastPrinted>1904-01-01T00:00:00Z</cp:lastPrinted>
  <dcterms:modified xsi:type="dcterms:W3CDTF">2004-02-26T12:23:14Z</dcterms:modified>
  <cp:revision>2</cp:revision>
  <dc:subject/>
  <dc:title>PowerPoint Presentation</dc:title>
</cp:coreProperties>
</file>