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0DAA-4180-4630-B150-44D8B3723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rint Wireless network has been in place for about 4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begining it has been all Karlnet Turbocell in Vol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50 km link 1-5 was recently changed to a a 5.8 gHz backha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ther links are in 2.4 gHz, links 1-2, 2-3 and 3-4 are 802.11b and do not work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6 and 10 are Turbocell AP’s on reflashed Lucent AP100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686-DAC2-4E63-AED9-4DBC7D21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200-8B49-4883-8A03-AC326567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B65-05E8-48E9-8426-258F5DEB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E17-C6E0-40E8-A8B7-E08C211C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0CEE-1ABB-4EFC-BEBB-FB50D0BC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B6C9-0F86-4266-A41E-E1BDB8DC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C328-506B-464C-92E9-A6518DFB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95BF-D18E-4DED-B656-8E4D631B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F9B0-296D-43E1-AA0F-319E4276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8387-FAAA-43BC-B1B2-A5B4F9B5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AE97-7B87-4304-90A0-F4BF3526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69A-3170-4185-8C0D-37ADE5A4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BBA2-88B4-4820-B1B8-E79D87E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FDD8-2205-441A-9462-EF852EB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6434-F66E-44F9-96BD-80468A6F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47BD-5169-4157-9203-7EA18968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B4B9-E017-4FB4-B542-D22C2FBC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F6D2-300B-46D1-A0DF-FD1A0B4B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E2B-10D2-4CAE-84C5-3EAC331D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A27-5922-4C1C-A3D5-69EDDF32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6D8-D666-4B58-914B-1B6E240A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BA8-76AE-4CCB-84F2-241C4031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83-22FD-4407-89BD-81DE100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BA7A-17AB-43A9-B335-06EF818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8D68-93E5-40F0-94C3-02A8F854703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5CC2-B5DD-4EF7-9281-3BB7E6D1025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hirinet Wireless Net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39117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equipment do I use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My equipment is mostly old use and purchased on ebay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Lucent AP 1000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Lucent Orinoco silver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Lucent RG 1000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YDI Amplifiers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Any antennas I can get or make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Times Microwave LMR-400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All hardware is reflashed with Karlnet Software, it is not 802.11b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I have samples of all hardware here for you to look at.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1c62"/>
                </a:solidFill>
                <a:latin typeface="Times New Roman"/>
              </a:rPr>
              <a:t>What are we going to do in the workshop?</a:t>
            </a:r>
            <a:endParaRPr b="0" lang="en-US" sz="40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will do some calcula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will configure an Ah-hoc networ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will set up an local network with some AP’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will create a backbone between AP’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can visit some field sites, time permitting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1c62"/>
                </a:solidFill>
                <a:latin typeface="Times New Roman"/>
              </a:rPr>
              <a:t>My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061c62"/>
                </a:solidFill>
                <a:latin typeface="Times New Roman"/>
              </a:rPr>
              <a:t>BIG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1c62"/>
                </a:solidFill>
                <a:latin typeface="Times New Roman"/>
              </a:rPr>
              <a:t>Tip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f the calculations say it will not work, don’t go to the field and try it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f the calculations say it might work, in the field it might not work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2d2525"/>
                </a:solidFill>
                <a:latin typeface="Times New Roman"/>
              </a:rPr>
              <a:t>Questions</a:t>
            </a:r>
            <a:endParaRPr b="0" i="1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What is 802.11 a/b/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  is 5.8 gHz at 54 mb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b  is 2.4 gHz at 11 mb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g  is 2.4 gHz at 22 mb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hat is defined in the standar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ents and ap'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ow Far will it go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802.11 was designed for Wireless LOCAL area LANs.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Specification has time limits between Packet send and ACK received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s limits RF distance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057400" y="3886200"/>
          <a:ext cx="361944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886200"/>
                    <a:ext cx="361944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urbocell and  Star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hat it Turbocell and  Star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an I really get 11 mb of data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ow much bandwidth do I need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ow far do I need to go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1828440"/>
            <a:ext cx="76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ower and Range</a:t>
            </a:r>
            <a:endParaRPr b="0" lang="en-US" sz="4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752480"/>
            <a:ext cx="4236840" cy="4216680"/>
          </a:xfrm>
          <a:prstGeom prst="ellipse">
            <a:avLst/>
          </a:prstGeom>
          <a:solidFill>
            <a:srgbClr val="586840"/>
          </a:solidFill>
          <a:ln w="1260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44600" y="2473200"/>
            <a:ext cx="2614680" cy="2716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85960" y="2901960"/>
            <a:ext cx="1795320" cy="1828800"/>
          </a:xfrm>
          <a:prstGeom prst="ellipse">
            <a:avLst/>
          </a:prstGeom>
          <a:solidFill>
            <a:srgbClr val="365d96"/>
          </a:solidFill>
          <a:ln w="12600">
            <a:solidFill>
              <a:srgbClr val="365d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57280" y="3325680"/>
            <a:ext cx="644040" cy="645480"/>
            <a:chOff x="2357280" y="3325680"/>
            <a:chExt cx="644040" cy="645480"/>
          </a:xfrm>
        </p:grpSpPr>
        <p:sp>
          <p:nvSpPr>
            <p:cNvPr id="111" name=""/>
            <p:cNvSpPr/>
            <p:nvPr/>
          </p:nvSpPr>
          <p:spPr>
            <a:xfrm>
              <a:off x="2357280" y="3627720"/>
              <a:ext cx="588600" cy="34344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43360" y="3603600"/>
              <a:ext cx="44640" cy="36756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48760" y="3675600"/>
              <a:ext cx="44640" cy="2408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56680" y="3758400"/>
              <a:ext cx="44640" cy="586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93320" y="3603600"/>
              <a:ext cx="81720" cy="367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927520" y="3579480"/>
              <a:ext cx="0" cy="2340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481120" y="3579480"/>
              <a:ext cx="0" cy="6300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93320" y="3592800"/>
              <a:ext cx="0" cy="3024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49440" y="3592440"/>
              <a:ext cx="0" cy="3276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7520" y="3564720"/>
              <a:ext cx="92520" cy="367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94360" y="3564720"/>
              <a:ext cx="92160" cy="367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63800" y="35737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20640" y="35737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33680" y="367560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02880" y="367776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37520" y="3578040"/>
              <a:ext cx="0" cy="4536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4360" y="3579840"/>
              <a:ext cx="0" cy="4572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37520" y="3623400"/>
              <a:ext cx="57960" cy="8892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94360" y="3625920"/>
              <a:ext cx="57960" cy="867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49440" y="3643200"/>
              <a:ext cx="68760" cy="496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86520" y="3666960"/>
              <a:ext cx="329760" cy="3672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9480" y="3677760"/>
              <a:ext cx="97560" cy="367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814120" y="3651480"/>
              <a:ext cx="23040" cy="1512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7280" y="361260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89040" y="3714480"/>
              <a:ext cx="295560" cy="9540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3734280"/>
              <a:ext cx="293400" cy="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94440" y="3782160"/>
              <a:ext cx="290160" cy="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44480" y="3862440"/>
              <a:ext cx="398880" cy="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44480" y="3895200"/>
              <a:ext cx="398880" cy="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47000" y="3927600"/>
              <a:ext cx="396360" cy="0"/>
            </a:xfrm>
            <a:prstGeom prst="line">
              <a:avLst/>
            </a:prstGeom>
            <a:ln w="9360">
              <a:solidFill>
                <a:srgbClr val="4847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37440" y="38563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37440" y="38887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37440" y="39211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3800" y="383904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3800" y="3868920"/>
              <a:ext cx="44640" cy="367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59120" y="3325680"/>
              <a:ext cx="44640" cy="25632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7320" y="3325680"/>
              <a:ext cx="44640" cy="25632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ccffff"/>
            </a:solidFill>
            <a:ln cap="rnd" w="9360">
              <a:solidFill>
                <a:srgbClr val="48471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H="1" flipV="1">
            <a:off x="4571640" y="5105520"/>
            <a:ext cx="1066680" cy="457200"/>
          </a:xfrm>
          <a:prstGeom prst="line">
            <a:avLst/>
          </a:prstGeom>
          <a:ln w="38160">
            <a:solidFill>
              <a:srgbClr val="58684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1480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2362320"/>
            <a:ext cx="2209680" cy="914400"/>
          </a:xfrm>
          <a:prstGeom prst="line">
            <a:avLst/>
          </a:prstGeom>
          <a:ln w="38160">
            <a:solidFill>
              <a:srgbClr val="365d96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21160" y="5486400"/>
            <a:ext cx="3260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6840"/>
                </a:solidFill>
                <a:latin typeface="Arial"/>
              </a:rPr>
              <a:t>2 Mbps DS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86840"/>
                </a:solidFill>
                <a:latin typeface="Arial"/>
              </a:rPr>
              <a:t>250-350 feet radius@100mW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440" y="3276720"/>
            <a:ext cx="240264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818"/>
                </a:solidFill>
                <a:latin typeface="Arial"/>
              </a:rPr>
              <a:t>5.5 Mbps DS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818"/>
                </a:solidFill>
                <a:latin typeface="Arial"/>
              </a:rPr>
              <a:t>130-150 feet 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818"/>
                </a:solidFill>
                <a:latin typeface="Arial"/>
              </a:rPr>
              <a:t>radius@ 100mW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97120" y="1600200"/>
            <a:ext cx="33246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5d96"/>
                </a:solidFill>
                <a:latin typeface="Arial"/>
              </a:rPr>
              <a:t>11 Mbps DS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5d96"/>
                </a:solidFill>
                <a:latin typeface="Arial"/>
              </a:rPr>
              <a:t>100-150 feet radius@ 100mW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777240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467480" cy="58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2155680"/>
            <a:ext cx="7543800" cy="4702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03480" y="422280"/>
            <a:ext cx="618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28600"/>
            <a:ext cx="678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 40 km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urvature is 78 ft and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senel is 72 ft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inimun antenna hight must be 150 fee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7162920" cy="391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057400" y="533520"/>
            <a:ext cx="401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d2525"/>
                </a:solidFill>
                <a:latin typeface="Times New Roman"/>
              </a:rPr>
              <a:t>Are you legal?</a:t>
            </a:r>
            <a:endParaRPr b="0" lang="en-US" sz="4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arodrig.adm</cp:lastModifiedBy>
  <cp:lastPrinted>1904-01-01T00:00:00Z</cp:lastPrinted>
  <dcterms:modified xsi:type="dcterms:W3CDTF">2004-02-25T19:51:27Z</dcterms:modified>
  <cp:revision>3</cp:revision>
  <dc:subject/>
  <dc:title>PowerPoint Presentation</dc:title>
</cp:coreProperties>
</file>