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E71-ED50-4823-AF74-2750BB2A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477-D826-4E77-ADD5-149D0A80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285-F7A3-45AC-8048-D0E6B95D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C6F-3099-42CF-8733-07975CD8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52B8-3A2A-4C15-8BB3-1A7A7AB8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207B-FEF6-40B0-A952-39A77B03B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EDA9-7EA8-417C-B808-71492E07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5AAA-FB78-4E55-A244-55167BA5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A720-B573-4BE4-908D-F1F0946D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651-22C7-4578-B6DB-B411DD00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AC30-6C49-4DBF-8FAD-E65B6EA8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028C-385E-48E8-BDDB-F443BCE7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C5E3-3A6A-4CC3-ACCF-E2E87EC2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98BB-9D02-4650-A1BD-5B4F790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554E-F705-4BDD-84D7-91FFE98E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5405-B1FB-4CD6-AFC0-533B48664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9BB-1540-4934-A927-77192210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A94-C9AB-4706-A7DA-5B05780C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B27-B545-4025-A73C-B47B7C78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C9E-6E6C-4DF1-9257-EDEBA4D7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7978-BBA8-4ACD-8317-CC3DFA10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DEB6-4476-47B2-A2A7-67F89B1C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AD9-B894-4088-9D73-219CA7A8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355-05EF-46A1-9338-BE940F85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7E5F-98C9-464E-A21B-5CBA8ACE8D3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CD95-8FC9-4318-8930-097DF48BB22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666880" y="2133360"/>
            <a:ext cx="281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SNe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MSNet is an easy to install,use, maintain and modify open source written in Perl.  It polls remote stations, declares events based on time, makes s-files, retrieves and stores waveforms into Seisan database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ritten by Angel “all automatic” Rodriguez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4495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Seaian::Tools</a:t>
            </a:r>
            <a:br>
              <a:rPr sz="4000"/>
            </a:b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verts Seisan to Nordic and vis-a-vers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verts Seisan or Nordic into Unix epoch time referenc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onverts Seisan and Nordic into DateTime::Precise format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iven a list of waveform files, returns an s-fil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iven a waveform file and the name of an s-file. add to the s-fil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orts an array of waveform files by Unix epoch time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1c62"/>
                </a:solidFill>
                <a:latin typeface="Times New Roman"/>
              </a:rPr>
              <a:t>Future Enhancements and Know issues</a:t>
            </a:r>
            <a:endParaRPr b="0" lang="en-US" sz="36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utomatic location and notific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Get and convert different file formats on the fly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mplement more SeisNet featur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Question and Answers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y Perl languag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3619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It's strengths are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free and available on all platform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Powerful file and string manipulatio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Powerful use of regular expressions in pattern matching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419720" y="2286000"/>
            <a:ext cx="3114720" cy="358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050840" y="1336680"/>
            <a:ext cx="634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To make easy jobs easy and hard ones possible”</a:t>
            </a:r>
            <a:endParaRPr b="0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y did I write MSNet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ecause I am lazy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 the begging it was all manual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en I wrote some batch files that got all events, manual processing.  It consumed lot of bandwidth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Jens suggested and outlined the program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ow it is all automatic, EEV ready with almost no bandwidth use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Does it work?</a:t>
            </a:r>
            <a:br>
              <a:rPr sz="4000"/>
            </a:br>
            <a:r>
              <a:rPr b="0" lang="en-US" sz="2800" spc="-1" strike="noStrike">
                <a:solidFill>
                  <a:srgbClr val="061c62"/>
                </a:solidFill>
                <a:latin typeface="Times New Roman"/>
              </a:rPr>
              <a:t>You bet!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as been running on my system for 3 month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 February it made about 300 s-fil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as not yet crashed or stopped working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sumes very little processor resourc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sumes very little bandwidth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Very easy to modify stations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Very easy to modify the program itself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MSNet does it's job in </a:t>
            </a:r>
            <a:br>
              <a:rPr sz="4000"/>
            </a:b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five main steps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first build a list of stations real or virtual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connects to each station on the list and gets the waveform file names, not the files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declares events and makes S-files based on the time extracted from the file name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then reconnects only the stations and gets only the waveforms that were used in the making of the S-fil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then deletes waveform files at reconnected stations based on user defined variables.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Each remote station </a:t>
            </a:r>
            <a:br>
              <a:rPr sz="4000"/>
            </a:b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needs a setup file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f you have a network with 20 station then you would need 20 “.station” files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o not visit a station you just remove the station file from the folder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You can make virtual stations to get just some files from a database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Setting up MSNet</a:t>
            </a:r>
            <a:br>
              <a:rPr sz="4000"/>
            </a:br>
            <a:r>
              <a:rPr b="0" lang="en-US" sz="2800" spc="-1" strike="noStrike">
                <a:solidFill>
                  <a:srgbClr val="061c62"/>
                </a:solidFill>
                <a:latin typeface="Times New Roman"/>
              </a:rPr>
              <a:t>MSNet needs an MSNet.ini file</a:t>
            </a:r>
            <a:endParaRPr b="0" lang="en-US" sz="2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39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ATION_HOME = c:\seismo\MSNet\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ATION_EXTENSION = .station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G_PATH = c:\seismo\MSNet\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A_BASE = C:\seismo\REA\demo_\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VENT_STORE = C:\seismo\WAV\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MEOUT = 0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BOSE = y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G = MSnet.log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CESSING_DAYS = 1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RRAY_PROP_TIME = 30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CLARE_EVENT = 3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RU2.station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IP = 64.116.183.137 # this is a commen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LOGIN = demo  # user nam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PASSWORD = demo1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REMOTE_WAVE_FORM_DIR = /Seislog/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TATION_TYPE = seisan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ELETE_FILES = 99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MTTNE = 170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# this is also a comment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MSNet does it's job in </a:t>
            </a:r>
            <a:br>
              <a:rPr sz="4000"/>
            </a:b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five main steps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first build a list of stations real or virtual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connects to each station on the list and gets the waveform file names, not the files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declares events and makes S-files based on the time extracted from the file name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then reconnects only the stations and gets only the waveforms that were used in the making of the S-fil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It then deletes waveform files at reconnected stations based on user defined variables.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rodrig.adm</cp:lastModifiedBy>
  <cp:lastPrinted>1904-01-01T00:00:00Z</cp:lastPrinted>
  <dcterms:modified xsi:type="dcterms:W3CDTF">2004-02-26T10:49:35Z</dcterms:modified>
  <cp:revision>3</cp:revision>
  <dc:subject/>
  <dc:title>PowerPoint Presentation</dc:title>
</cp:coreProperties>
</file>